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6BA-5868-4EDE-929B-7E68C9E0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2352-F6F2-4A9A-8343-21C9F0AA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0A5-074B-482E-BC2C-8EFCF909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C4F-B8AA-48BA-8A37-8F090C66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CA59-329F-46AE-8045-B5705E70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4F7D-D513-44B0-B848-2F1920C0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B69B-5CDC-415E-BA7C-3CD3B3AB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F990-E208-4992-841E-5266F904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A8B-0AC1-46B7-BA54-312019D9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A66-B67D-4DFC-ABF4-5C932F12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DE9-EC3D-4C8A-8121-E72B16CA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229E-1669-4A48-B786-59E86601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222D-7EE5-4C29-8203-6C9DA00525B1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AE85-CDFA-4497-8948-5D54401FF7B9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Chapter 6</a:t>
            </a:r>
            <a:br>
              <a:rPr sz="6000"/>
            </a:b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6600"/>
                </a:solidFill>
                <a:latin typeface="Arial"/>
              </a:rPr>
              <a:t>Momentum 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Egg Thro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16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ow a raw egg as fast as possible at a sheet that’s held loose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23150" b="23815"/>
          <a:stretch/>
        </p:blipFill>
        <p:spPr>
          <a:xfrm>
            <a:off x="4559400" y="2139840"/>
            <a:ext cx="3467160" cy="3008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84800" y="4229280"/>
            <a:ext cx="27936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83360" y="2984400"/>
            <a:ext cx="419040" cy="216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51480" y="3052800"/>
            <a:ext cx="4824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81760" y="2590920"/>
            <a:ext cx="977760" cy="1117440"/>
          </a:xfrm>
          <a:prstGeom prst="ellipse">
            <a:avLst/>
          </a:prstGeom>
          <a:solidFill>
            <a:srgbClr val="00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15040" y="2836800"/>
            <a:ext cx="507960" cy="596880"/>
          </a:xfrm>
          <a:prstGeom prst="ellipse">
            <a:avLst/>
          </a:prstGeom>
          <a:solidFill>
            <a:srgbClr val="00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72360" y="2994120"/>
            <a:ext cx="177840" cy="279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863600" y="30862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957560" y="31924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970160" y="29894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72360" y="2004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94760" y="209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05360" y="369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04040" y="434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75280" y="54259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(Hold 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8680" y="1320480"/>
            <a:ext cx="5041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w egg at sheet or wall with same speed. Which case h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change of velo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me in both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change of moment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me in both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st impulse on the eg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me in both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st time of impa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ow at the 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st force on the eg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ow at the w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4120" y="1562040"/>
            <a:ext cx="3308400" cy="469116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7228440" y="2957400"/>
            <a:ext cx="1439640" cy="2722680"/>
            <a:chOff x="7228440" y="2957400"/>
            <a:chExt cx="1439640" cy="2722680"/>
          </a:xfrm>
        </p:grpSpPr>
        <p:sp>
          <p:nvSpPr>
            <p:cNvPr id="83" name=""/>
            <p:cNvSpPr/>
            <p:nvPr/>
          </p:nvSpPr>
          <p:spPr>
            <a:xfrm>
              <a:off x="7228440" y="2957400"/>
              <a:ext cx="1439640" cy="368280"/>
            </a:xfrm>
            <a:prstGeom prst="rect">
              <a:avLst/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LONG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56240" y="5311800"/>
              <a:ext cx="1183680" cy="368280"/>
            </a:xfrm>
            <a:prstGeom prst="rect">
              <a:avLst/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short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039080" y="3292560"/>
            <a:ext cx="1819080" cy="2722320"/>
            <a:chOff x="7039080" y="3292560"/>
            <a:chExt cx="1819080" cy="2722320"/>
          </a:xfrm>
        </p:grpSpPr>
        <p:sp>
          <p:nvSpPr>
            <p:cNvPr id="86" name=""/>
            <p:cNvSpPr/>
            <p:nvPr/>
          </p:nvSpPr>
          <p:spPr>
            <a:xfrm>
              <a:off x="7306560" y="3292560"/>
              <a:ext cx="1284120" cy="368280"/>
            </a:xfrm>
            <a:prstGeom prst="rect">
              <a:avLst/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mall fo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39080" y="5646600"/>
              <a:ext cx="1819080" cy="368280"/>
            </a:xfrm>
            <a:prstGeom prst="rect">
              <a:avLst/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LARGE FO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Boxer taking punc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st when fast moving punch is strikes head over long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398600">
            <a:off x="1553760" y="3446280"/>
            <a:ext cx="885960" cy="99684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22360" y="4533840"/>
            <a:ext cx="825480" cy="1650960"/>
          </a:xfrm>
          <a:custGeom>
            <a:avLst/>
            <a:gdLst>
              <a:gd name="textAreaLeft" fmla="*/ 39960 w 825480"/>
              <a:gd name="textAreaRight" fmla="*/ 785520 w 825480"/>
              <a:gd name="textAreaTop" fmla="*/ 39960 h 1650960"/>
              <a:gd name="textAreaBottom" fmla="*/ 1611000 h 1650960"/>
            </a:gdLst>
            <a:ahLst/>
            <a:rect l="textAreaLeft" t="textAreaTop" r="textAreaRight" b="textAreaBottom"/>
            <a:pathLst>
              <a:path w="21600" h="43191">
                <a:moveTo>
                  <a:pt x="3600" y="0"/>
                </a:moveTo>
                <a:arcTo wR="3600" hR="3600" stAng="16200000" swAng="-5400000"/>
                <a:lnTo>
                  <a:pt x="0" y="39591"/>
                </a:lnTo>
                <a:arcTo wR="3600" hR="3600" stAng="10800000" swAng="-5400000"/>
                <a:lnTo>
                  <a:pt x="18000" y="43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9160" y="3736800"/>
            <a:ext cx="762120" cy="216000"/>
          </a:xfrm>
          <a:custGeom>
            <a:avLst/>
            <a:gdLst>
              <a:gd name="textAreaLeft" fmla="*/ 0 w 762120"/>
              <a:gd name="textAreaRight" fmla="*/ 762480 w 7621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00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51920" y="2805120"/>
            <a:ext cx="18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ce) x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148360" y="2771640"/>
            <a:ext cx="3055320" cy="3418200"/>
            <a:chOff x="5148360" y="2771640"/>
            <a:chExt cx="3055320" cy="3418200"/>
          </a:xfrm>
        </p:grpSpPr>
        <p:sp>
          <p:nvSpPr>
            <p:cNvPr id="95" name=""/>
            <p:cNvSpPr/>
            <p:nvPr/>
          </p:nvSpPr>
          <p:spPr>
            <a:xfrm>
              <a:off x="5871960" y="3408480"/>
              <a:ext cx="812520" cy="101592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71960" y="4538520"/>
              <a:ext cx="825120" cy="1651320"/>
            </a:xfrm>
            <a:custGeom>
              <a:avLst/>
              <a:gdLst>
                <a:gd name="textAreaLeft" fmla="*/ 39960 w 825120"/>
                <a:gd name="textAreaRight" fmla="*/ 785160 w 825120"/>
                <a:gd name="textAreaTop" fmla="*/ 39960 h 1651320"/>
                <a:gd name="textAreaBottom" fmla="*/ 1611360 h 1651320"/>
              </a:gdLst>
              <a:ahLst/>
              <a:rect l="textAreaLeft" t="textAreaTop" r="textAreaRight" b="textAreaBottom"/>
              <a:pathLst>
                <a:path w="21600" h="43219">
                  <a:moveTo>
                    <a:pt x="3600" y="0"/>
                  </a:moveTo>
                  <a:arcTo wR="3600" hR="3600" stAng="16200000" swAng="-5400000"/>
                  <a:lnTo>
                    <a:pt x="0" y="39619"/>
                  </a:lnTo>
                  <a:arcTo wR="3600" hR="3600" stAng="10800000" swAng="-5400000"/>
                  <a:lnTo>
                    <a:pt x="18000" y="432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48360" y="3522600"/>
              <a:ext cx="761760" cy="21600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79960" y="357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51400" y="3571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06960" y="3213000"/>
              <a:ext cx="151920" cy="165240"/>
            </a:xfrm>
            <a:prstGeom prst="star5">
              <a:avLst/>
            </a:prstGeom>
            <a:solidFill>
              <a:srgbClr val="bbe0e3"/>
            </a:solidFill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07000" y="3306600"/>
              <a:ext cx="151920" cy="165240"/>
            </a:xfrm>
            <a:prstGeom prst="star5">
              <a:avLst/>
            </a:prstGeom>
            <a:solidFill>
              <a:srgbClr val="bbe0e3"/>
            </a:solidFill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83280" y="4102200"/>
              <a:ext cx="380520" cy="12708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86600" y="3390840"/>
              <a:ext cx="1117080" cy="355680"/>
            </a:xfrm>
            <a:prstGeom prst="wedgeRoundRectCallout">
              <a:avLst>
                <a:gd name="adj1" fmla="val -107384"/>
                <a:gd name="adj2" fmla="val 145087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11880" y="337644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ch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9240" y="2771640"/>
              <a:ext cx="20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 x (tim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804000" y="4227480"/>
            <a:ext cx="220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Not safe if fist  hits rigid bod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02040" y="4299120"/>
            <a:ext cx="2468520" cy="2020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51600" y="3516480"/>
            <a:ext cx="761760" cy="215640"/>
          </a:xfrm>
          <a:custGeom>
            <a:avLst/>
            <a:gdLst>
              <a:gd name="textAreaLeft" fmla="*/ 0 w 761760"/>
              <a:gd name="textAreaRight" fmla="*/ 762120 w 7617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00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05-06Figure_FIG.jpg"/>
          <p:cNvPicPr/>
          <p:nvPr/>
        </p:nvPicPr>
        <p:blipFill>
          <a:blip r:embed="rId1"/>
          <a:srcRect l="0" t="0" r="0" b="10137"/>
          <a:stretch/>
        </p:blipFill>
        <p:spPr>
          <a:xfrm>
            <a:off x="3394080" y="3083040"/>
            <a:ext cx="5307120" cy="29858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eck Yourself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2 ton car, going 60 m.p.h. hits a 5 ton truck, going 20 m.p.h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rce of impact is greatest on which vehicle, the car or the tru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rce on each is equal (by Newton’s 3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Law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mpulse is greatest on which vehicle, the car or the tru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rce equal &amp; time of contact equal,                                                                so impulse eq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of momentum greate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qual for the two veh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of velocity greate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r the car (less ma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injury greate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pends on safety fea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utomobile Safe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1200" y="1422000"/>
            <a:ext cx="86868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ing the time of impac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 the dri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izes the force of impact. This principle used in design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49160" y="2489040"/>
            <a:ext cx="1905120" cy="2988720"/>
            <a:chOff x="749160" y="2489040"/>
            <a:chExt cx="1905120" cy="298872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749160" y="2489040"/>
              <a:ext cx="1905120" cy="25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964800" y="501804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Seatbel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752560" y="2635200"/>
            <a:ext cx="3333960" cy="2834640"/>
            <a:chOff x="2752560" y="2635200"/>
            <a:chExt cx="3333960" cy="2834640"/>
          </a:xfrm>
        </p:grpSpPr>
        <p:pic>
          <p:nvPicPr>
            <p:cNvPr id="118" name="" descr="Diagram of airbag inflation"/>
            <p:cNvPicPr/>
            <p:nvPr/>
          </p:nvPicPr>
          <p:blipFill>
            <a:blip r:embed="rId2"/>
            <a:stretch/>
          </p:blipFill>
          <p:spPr>
            <a:xfrm>
              <a:off x="2752560" y="2635200"/>
              <a:ext cx="3333960" cy="24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814200" y="501012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Air Ba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276960" y="2541600"/>
            <a:ext cx="2503440" cy="3273480"/>
            <a:chOff x="6276960" y="2541600"/>
            <a:chExt cx="2503440" cy="3273480"/>
          </a:xfrm>
        </p:grpSpPr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6276960" y="2541600"/>
              <a:ext cx="2503440" cy="24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906600" y="4989600"/>
              <a:ext cx="133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Crum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Z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aking impulse work for yo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1200" y="1422000"/>
            <a:ext cx="86868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: When you want to give something a large momentum, and you can only apply a limited amount of force, what can you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Apply the force over a long period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doing this you give it a larger impulse and therefore a larger change in moment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) Cannons  and rifles have a long bar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) In sports where you throw or hit things athletes are coached to “follow through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) blow d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346560" y="4460760"/>
            <a:ext cx="2873160" cy="1974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162920" y="2994120"/>
            <a:ext cx="1423800" cy="985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440320" y="3013200"/>
            <a:ext cx="143028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servation of Momentum and Collision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tion 6-2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44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wo objects collide, impulse is equal and opposite for the two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12800" y="369576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63600" y="3560760"/>
            <a:ext cx="800280" cy="77472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3759120"/>
            <a:ext cx="190440" cy="42084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44640" y="4614840"/>
            <a:ext cx="53316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67040" y="4492800"/>
            <a:ext cx="799920" cy="77436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452240" y="464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84000" y="4822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596600" y="4962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495080" y="5051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62120" y="4708080"/>
            <a:ext cx="274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529000" y="4839840"/>
            <a:ext cx="274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490840" y="5005440"/>
            <a:ext cx="274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630520" y="5169960"/>
            <a:ext cx="274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643120" y="4548240"/>
            <a:ext cx="274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63680" y="2811600"/>
            <a:ext cx="53352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98760" y="2676600"/>
            <a:ext cx="799920" cy="77472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906480" y="2862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822240" y="3044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835200" y="3184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949320" y="327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98680" y="2879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4480" y="3011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17840" y="3176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52960" y="3341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2719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24080" y="271944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coll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99800" y="366408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4621320"/>
            <a:ext cx="22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oll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394956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77520" y="394164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08160" y="362736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MPU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6840" y="363204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MPU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6560" y="5502240"/>
            <a:ext cx="83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bject has equal and opposite change in momen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servation of Momentu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change of momentum in a collision is equal and opposite, the momentum gained by one object is the amount lost by the 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43600" y="3214800"/>
            <a:ext cx="3884760" cy="1849320"/>
            <a:chOff x="543600" y="3214800"/>
            <a:chExt cx="3884760" cy="1849320"/>
          </a:xfrm>
        </p:grpSpPr>
        <p:sp>
          <p:nvSpPr>
            <p:cNvPr id="166" name=""/>
            <p:cNvSpPr/>
            <p:nvPr/>
          </p:nvSpPr>
          <p:spPr>
            <a:xfrm>
              <a:off x="543600" y="3222720"/>
              <a:ext cx="17337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men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Object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efore Colli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94600" y="3214800"/>
              <a:ext cx="17337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men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Object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efore Colli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2000" y="34275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3360" y="44244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05200" y="4289400"/>
              <a:ext cx="799920" cy="774720"/>
            </a:xfrm>
            <a:prstGeom prst="ellipse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046160" y="4475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961920" y="4657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974880" y="4797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089000" y="4886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05120" y="4492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60920" y="4624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24280" y="4789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59040" y="4954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72000" y="433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16400" y="4511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44960" y="4478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612680" y="3206880"/>
            <a:ext cx="4066560" cy="1831680"/>
            <a:chOff x="4612680" y="3206880"/>
            <a:chExt cx="4066560" cy="1831680"/>
          </a:xfrm>
        </p:grpSpPr>
        <p:sp>
          <p:nvSpPr>
            <p:cNvPr id="183" name=""/>
            <p:cNvSpPr/>
            <p:nvPr/>
          </p:nvSpPr>
          <p:spPr>
            <a:xfrm>
              <a:off x="5092200" y="3214800"/>
              <a:ext cx="15645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men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Object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Colli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14680" y="3206880"/>
              <a:ext cx="15645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men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Object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Colli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12680" y="34704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00320" y="34495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54800" y="4386240"/>
              <a:ext cx="533160" cy="5335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77200" y="4264200"/>
              <a:ext cx="799920" cy="774360"/>
            </a:xfrm>
            <a:prstGeom prst="ellipse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6062400" y="4411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194160" y="4594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206760" y="4734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6105240" y="4822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7172280" y="4479480"/>
              <a:ext cx="274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139160" y="4611240"/>
              <a:ext cx="27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101000" y="4776840"/>
              <a:ext cx="27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7240680" y="4941360"/>
              <a:ext cx="274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7253280" y="4319640"/>
              <a:ext cx="27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59560" y="4452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21640" y="4457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57360" y="5281560"/>
            <a:ext cx="781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ctual amount of momentum exchanged depends on the details of the collision, such as whether or not collision is ela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Elastic Collis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6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of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qual m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change momentum on elastic collisions. In rare cases, they also exchange all their KE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06-13Figure_FIG.jpg"/>
          <p:cNvPicPr/>
          <p:nvPr/>
        </p:nvPicPr>
        <p:blipFill>
          <a:blip r:embed="rId1"/>
          <a:srcRect l="0" t="0" r="0" b="5789"/>
          <a:stretch/>
        </p:blipFill>
        <p:spPr>
          <a:xfrm>
            <a:off x="719280" y="2452680"/>
            <a:ext cx="727056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el balls collide elastically, exchanging momentum on coll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483080" y="2698920"/>
            <a:ext cx="4487760" cy="336528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495360" y="3008160"/>
            <a:ext cx="3822480" cy="2238480"/>
            <a:chOff x="495360" y="3008160"/>
            <a:chExt cx="3822480" cy="2238480"/>
          </a:xfrm>
        </p:grpSpPr>
        <p:pic>
          <p:nvPicPr>
            <p:cNvPr id="208" name="" descr="06-13Figure_FIG.jpg"/>
            <p:cNvPicPr/>
            <p:nvPr/>
          </p:nvPicPr>
          <p:blipFill>
            <a:blip r:embed="rId2"/>
            <a:srcRect l="0" t="0" r="49834" b="53652"/>
            <a:stretch/>
          </p:blipFill>
          <p:spPr>
            <a:xfrm>
              <a:off x="495360" y="3008160"/>
              <a:ext cx="382248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84280" y="4152960"/>
              <a:ext cx="469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rce, Momentum, Energ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Newton’s Laws, we can understand motion just using for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easier to understand motion by introducing concepts of momentum and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Don’t Scratc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84200"/>
            <a:ext cx="8255160" cy="30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ink a billiard ball that is very close to the pocket without having the cue ball go in as well (“scratching”) strike the cue ball hard so it makes a crisp, elastic coll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032440" y="3449520"/>
            <a:ext cx="3862440" cy="2775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41360" y="3516480"/>
            <a:ext cx="459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ith demo, cue ball will stop after giving all its momentum to the other ball in the coll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637080" y="4013280"/>
            <a:ext cx="1312920" cy="1317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650960" y="3983040"/>
            <a:ext cx="1312920" cy="1317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55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asses unequal, momentum change can be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906560" y="2323800"/>
            <a:ext cx="799920" cy="1612800"/>
            <a:chOff x="1906560" y="2323800"/>
            <a:chExt cx="799920" cy="1612800"/>
          </a:xfrm>
        </p:grpSpPr>
        <p:sp>
          <p:nvSpPr>
            <p:cNvPr id="219" name=""/>
            <p:cNvSpPr/>
            <p:nvPr/>
          </p:nvSpPr>
          <p:spPr>
            <a:xfrm rot="5400000">
              <a:off x="1906200" y="3136320"/>
              <a:ext cx="800280" cy="799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630520" y="24501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356560" y="2323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147040" y="23432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013480" y="25142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 flipV="1">
            <a:off x="2038320" y="3339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236680" y="325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484360" y="3160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732040" y="340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798560" y="3389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960" y="5308560"/>
            <a:ext cx="7416720" cy="152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782880" y="2430000"/>
            <a:ext cx="933480" cy="3700800"/>
            <a:chOff x="3782880" y="2430000"/>
            <a:chExt cx="933480" cy="3700800"/>
          </a:xfrm>
        </p:grpSpPr>
        <p:sp>
          <p:nvSpPr>
            <p:cNvPr id="231" name=""/>
            <p:cNvSpPr/>
            <p:nvPr/>
          </p:nvSpPr>
          <p:spPr>
            <a:xfrm rot="5400000">
              <a:off x="3879360" y="3243240"/>
              <a:ext cx="800280" cy="80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603680" y="2557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329000" y="2430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119480" y="2449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986280" y="26204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24440" y="5265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21000" y="53499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68680" y="5445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16360" y="51973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82880" y="52164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03720" y="3848040"/>
              <a:ext cx="190440" cy="420840"/>
            </a:xfrm>
            <a:prstGeom prst="irregularSeal1">
              <a:avLst/>
            </a:prstGeom>
            <a:solidFill>
              <a:srgbClr val="cc0099">
                <a:alpha val="40000"/>
              </a:srgbClr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676840" y="339480"/>
            <a:ext cx="1312920" cy="5758200"/>
            <a:chOff x="5676840" y="339480"/>
            <a:chExt cx="1312920" cy="5758200"/>
          </a:xfrm>
        </p:grpSpPr>
        <p:pic>
          <p:nvPicPr>
            <p:cNvPr id="243" name="" descr=""/>
            <p:cNvPicPr/>
            <p:nvPr/>
          </p:nvPicPr>
          <p:blipFill>
            <a:blip r:embed="rId3"/>
            <a:stretch/>
          </p:blipFill>
          <p:spPr>
            <a:xfrm>
              <a:off x="5676840" y="3979800"/>
              <a:ext cx="131292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051600" y="52322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48520" y="5316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95840" y="5411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43520" y="5164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10040" y="5183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5932080" y="339480"/>
              <a:ext cx="800280" cy="3607200"/>
              <a:chOff x="5932080" y="339480"/>
              <a:chExt cx="800280" cy="3607200"/>
            </a:xfrm>
          </p:grpSpPr>
          <p:sp>
            <p:nvSpPr>
              <p:cNvPr id="250" name=""/>
              <p:cNvSpPr/>
              <p:nvPr/>
            </p:nvSpPr>
            <p:spPr>
              <a:xfrm flipV="1" rot="16200000">
                <a:off x="5932080" y="339120"/>
                <a:ext cx="800280" cy="80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630480" y="1076400"/>
                <a:ext cx="1800" cy="27432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6357960" y="1203480"/>
                <a:ext cx="1440" cy="27432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148440" y="1184400"/>
                <a:ext cx="1440" cy="27432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6014520" y="1013040"/>
                <a:ext cx="1800" cy="27432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1078920" y="3033720"/>
            <a:ext cx="6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01960" y="4270320"/>
            <a:ext cx="5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Go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40920" y="2563920"/>
            <a:ext cx="18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eed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ing-pong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s 3x la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lingshot effec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 Perfectly Inelastic Collis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65160" y="1600200"/>
            <a:ext cx="742968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 stick together after colli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 is not conserved.  Energy is lost to sound and changing the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06-15Figure_FIG.jpg"/>
          <p:cNvPicPr/>
          <p:nvPr/>
        </p:nvPicPr>
        <p:blipFill>
          <a:blip r:embed="rId1"/>
          <a:stretch/>
        </p:blipFill>
        <p:spPr>
          <a:xfrm>
            <a:off x="612720" y="2573280"/>
            <a:ext cx="4032360" cy="27939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06-14Figure_FIG.jpg"/>
          <p:cNvPicPr/>
          <p:nvPr/>
        </p:nvPicPr>
        <p:blipFill>
          <a:blip r:embed="rId2"/>
          <a:srcRect l="0" t="0" r="0" b="4845"/>
          <a:stretch/>
        </p:blipFill>
        <p:spPr>
          <a:xfrm>
            <a:off x="4495680" y="2509920"/>
            <a:ext cx="4254480" cy="26780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053320" y="2741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08680" y="3648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505560" y="456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5480" y="2754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00920" y="3648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34440" y="457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06-14Figure_FIG.jpg"/>
          <p:cNvPicPr/>
          <p:nvPr/>
        </p:nvPicPr>
        <p:blipFill>
          <a:blip r:embed="rId3"/>
          <a:srcRect l="0" t="0" r="68362" b="93302"/>
          <a:stretch/>
        </p:blipFill>
        <p:spPr>
          <a:xfrm>
            <a:off x="690480" y="2438280"/>
            <a:ext cx="1346400" cy="189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06-14Figure_FIG.jpg"/>
          <p:cNvPicPr/>
          <p:nvPr/>
        </p:nvPicPr>
        <p:blipFill>
          <a:blip r:embed="rId4"/>
          <a:srcRect l="47169" t="0" r="25371" b="92398"/>
          <a:stretch/>
        </p:blipFill>
        <p:spPr>
          <a:xfrm>
            <a:off x="1897200" y="4368960"/>
            <a:ext cx="1168200" cy="214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06-14Figure_FIG.jpg"/>
          <p:cNvPicPr/>
          <p:nvPr/>
        </p:nvPicPr>
        <p:blipFill>
          <a:blip r:embed="rId5"/>
          <a:srcRect l="0" t="0" r="80904" b="91940"/>
          <a:stretch/>
        </p:blipFill>
        <p:spPr>
          <a:xfrm>
            <a:off x="3260880" y="2468520"/>
            <a:ext cx="812520" cy="2271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06-14Figure_FIG.jpg"/>
          <p:cNvPicPr/>
          <p:nvPr/>
        </p:nvPicPr>
        <p:blipFill>
          <a:blip r:embed="rId6"/>
          <a:srcRect l="68362" t="-435" r="16720" b="93302"/>
          <a:stretch/>
        </p:blipFill>
        <p:spPr>
          <a:xfrm>
            <a:off x="2943360" y="2455920"/>
            <a:ext cx="635040" cy="2016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521240" y="2298600"/>
            <a:ext cx="0" cy="3289320"/>
          </a:xfrm>
          <a:prstGeom prst="line">
            <a:avLst/>
          </a:prstGeom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eck Yourself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(4 kg) fish swims at 3 m/s towards a small  (2 kg) fish at rest and swallows it for lun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momentum before lun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 4 kg ) x ( 3 m/s ) + ( 2 kg ) x ( 0 m/s ) = 12  kg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momentum after lun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y conservation of momentum, still 12 kg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ty of the large fish (with small fish inside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 6 kg) x (Velocity) = 12 kg m/s so the post-lunch velocity is 2 m/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06-17Figure_FIG.jpg"/>
          <p:cNvPicPr/>
          <p:nvPr/>
        </p:nvPicPr>
        <p:blipFill>
          <a:blip r:embed="rId1"/>
          <a:stretch/>
        </p:blipFill>
        <p:spPr>
          <a:xfrm>
            <a:off x="460440" y="3068640"/>
            <a:ext cx="832176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oil (explosion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entum conservation also explains rec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05-16Figure_FIG.jpg"/>
          <p:cNvPicPr/>
          <p:nvPr/>
        </p:nvPicPr>
        <p:blipFill>
          <a:blip r:embed="rId1"/>
          <a:stretch/>
        </p:blipFill>
        <p:spPr>
          <a:xfrm>
            <a:off x="1371600" y="2179800"/>
            <a:ext cx="6249960" cy="30700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001880" y="283356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MASS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x (velo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307656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mass) x (VELO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325160" y="5357880"/>
            <a:ext cx="58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ecoil effect is like an inelastic collision in reve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licated Collis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s at an angle (not head-on) are more complicated. Learn by playing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Live Billiards screenshot"/>
          <p:cNvPicPr/>
          <p:nvPr/>
        </p:nvPicPr>
        <p:blipFill>
          <a:blip r:embed="rId1"/>
          <a:stretch/>
        </p:blipFill>
        <p:spPr>
          <a:xfrm>
            <a:off x="4668840" y="2865600"/>
            <a:ext cx="3984480" cy="31906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851040" y="32004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36880" y="2938320"/>
            <a:ext cx="6858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35240" y="3149640"/>
            <a:ext cx="330120" cy="330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558360" y="3263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23720" y="3446640"/>
            <a:ext cx="39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85560" y="36241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14520" y="3814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89240" y="417024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028960" y="3908520"/>
            <a:ext cx="6858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27320" y="4119480"/>
            <a:ext cx="330120" cy="330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1096560" y="4233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961920" y="4416480"/>
            <a:ext cx="39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923760" y="45943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152000" y="4784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55880" y="4178160"/>
            <a:ext cx="190440" cy="420840"/>
          </a:xfrm>
          <a:prstGeom prst="irregularSeal1">
            <a:avLst/>
          </a:prstGeom>
          <a:solidFill>
            <a:srgbClr val="cc0099">
              <a:alpha val="40000"/>
            </a:srgbClr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09760" y="4581360"/>
            <a:ext cx="6858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08480" y="4792680"/>
            <a:ext cx="330120" cy="330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809000" y="5327280"/>
            <a:ext cx="1226880" cy="931320"/>
            <a:chOff x="1809000" y="5327280"/>
            <a:chExt cx="1226880" cy="931320"/>
          </a:xfrm>
        </p:grpSpPr>
        <p:sp>
          <p:nvSpPr>
            <p:cNvPr id="303" name=""/>
            <p:cNvSpPr/>
            <p:nvPr/>
          </p:nvSpPr>
          <p:spPr>
            <a:xfrm rot="1257600">
              <a:off x="2250000" y="547272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2099520" y="5327280"/>
              <a:ext cx="284760" cy="10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1908360" y="5449680"/>
              <a:ext cx="36792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1809000" y="5601960"/>
              <a:ext cx="403200" cy="15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1954800" y="5861880"/>
              <a:ext cx="284400" cy="1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 flipH="1">
            <a:off x="2958840" y="4788000"/>
            <a:ext cx="21564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950920" y="4983120"/>
            <a:ext cx="21564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989080" y="5135400"/>
            <a:ext cx="21564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133800" y="5254560"/>
            <a:ext cx="21600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mentum</a:t>
            </a:r>
            <a:br>
              <a:rPr sz="44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ction 6-1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55468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mentum of an object is can be thought of as “inertia in motion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Momentum) = (Mass) X (Velocit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m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amples of objects with large momentums are supertanker (large mass) and bullet (large velocity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ren’t momentum and inertia the same thing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fference is if an object is at rest, it has no momentum, but it does have inert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mentum is 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ecto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quantity.  Direction matters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Crude Oil Tanker"/>
          <p:cNvPicPr/>
          <p:nvPr/>
        </p:nvPicPr>
        <p:blipFill>
          <a:blip r:embed="rId1"/>
          <a:stretch/>
        </p:blipFill>
        <p:spPr>
          <a:xfrm>
            <a:off x="6245280" y="1508040"/>
            <a:ext cx="2625840" cy="2237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248520" y="3868560"/>
            <a:ext cx="258912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mentum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nits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74680"/>
            <a:ext cx="769608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momentum is found by multiplying mass and velocity, the units ar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g m/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’s no fancy name for these units.  Just say kilogram meters per seco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05-06Figure_FIG.jpg"/>
          <p:cNvPicPr/>
          <p:nvPr/>
        </p:nvPicPr>
        <p:blipFill>
          <a:blip r:embed="rId1"/>
          <a:srcRect l="0" t="0" r="0" b="10137"/>
          <a:stretch/>
        </p:blipFill>
        <p:spPr>
          <a:xfrm>
            <a:off x="3483000" y="3083040"/>
            <a:ext cx="5218200" cy="2985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2 ton car, going 60 m.p.h. hits a 5 ton truck, going 20 m.p.h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vehicle, the car or the truck, has greater momentu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car because (2)x(60) = 120 and (5)x(20) = 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the car’s speed have to be for the momentums to mat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fty m.p.h. since (2)x(50) = (5)X(2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’t you forgetting someth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direction of velo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that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ar-end crash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ame as a head-on cras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re about this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e do coll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mentum and Impulse</a:t>
            </a: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tion 6-2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hapter 5, we learned to change the velocity of an object is to change its 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object’s KE is changed, work was done on the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s F x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changing the motion of an object can be describe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h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ush is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f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’s pushed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way we can describe a change in motion is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h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ush is an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uch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ush is applied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ll F x t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u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mentum and Impulse</a:t>
            </a: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tion 6-1 continue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an object with a large momentum requires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force (stopping the object quickl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force applied for a lo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at changing an object’s momentum depends on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ime inter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uls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mpulse acting on an object 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pulse) = (Force on object) X (Time interv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= F 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ulse &amp; Momentu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mpulse causes a change in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∆p = F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rearrange this 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t = ∆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t = ∆m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t = m ∆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t = m 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m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his relation comes from Newton’s 2</a:t>
            </a:r>
            <a:r>
              <a:rPr b="0" lang="en-US" sz="2400" spc="-1" strike="noStrike" baseline="30000">
                <a:solidFill>
                  <a:srgbClr val="0066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70480" y="5351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1:48:54Z</dcterms:created>
  <dc:creator>Garcia</dc:creator>
  <dc:description/>
  <dc:language>en-US</dc:language>
  <cp:lastModifiedBy>PA Department of Education</cp:lastModifiedBy>
  <dcterms:modified xsi:type="dcterms:W3CDTF">2008-02-04T18:27:45Z</dcterms:modified>
  <cp:revision>208</cp:revision>
  <dc:subject/>
  <dc:title>Slide 1</dc:title>
</cp:coreProperties>
</file>